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55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87E38-B270-4D35-B1E7-BA8ADD9FF9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46196-6B7D-4FCA-8107-7359EE10572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D439B-53F5-4478-9675-1A7ABBFC133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CD51D-A8A0-4BBF-B9BC-1C45FFCD69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A0EA7-0A27-4AC7-95A7-C818E51042E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31E14-83D2-4900-9C86-5DE09C461F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D938F-06CF-4EBA-9341-D684039B986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7FDAE-4F31-4FDC-87B7-8942A76BBBF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AB0CE-46AB-4435-AAAC-BADF428A6CF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3091C-09BC-408B-893F-85C3395AD4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04A6E-7558-4772-8DF3-5663969F8F3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8BC3E-B57D-48ED-9B8E-4BA87D29B6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B9A5-A880-4752-A58B-28AFB98B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A5D2-AE2A-40D9-B431-65411A7B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88202-1303-411B-9C77-FCA6F91821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444F-641C-41CF-92E2-64498F64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A7A85-DF52-48E3-9B37-67E87F2C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0D1A-3964-4060-8ED1-AD9CE350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5C5E-B752-4ABB-8244-EA54B94C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3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20CC-BA57-461D-95DF-2290DFC7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0CED-B40D-44A4-972E-79818D82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30D4-E64D-4651-A3E7-F8625DCE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8CF3C-FCE4-4342-B5A7-25CFA6EC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F528E4-8821-4774-97E1-C4580EB93EC4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EL RELIEVE DE LAS ZONAS E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e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1440000" y="3060720"/>
            <a:ext cx="6838920" cy="3240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900000" y="1268280"/>
            <a:ext cx="734544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contin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isl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relieve de estas zonas destac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cordille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llanu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depre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zonas emerg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6300720" y="2755800"/>
            <a:ext cx="107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rdill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708360" y="3429000"/>
            <a:ext cx="107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Llan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348000" y="4221000"/>
            <a:ext cx="107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pres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4643280" y="6093000"/>
            <a:ext cx="2808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5000b"/>
                </a:solidFill>
                <a:latin typeface="Arial"/>
              </a:rPr>
              <a:t>Pulsa sobre cada forma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e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95280" y="126828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conjuntos formados por montañas, que se disponen 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 largo de una gran exten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cordill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12 Imagen" descr="cordillera_bd.jpg"/>
          <p:cNvPicPr/>
          <p:nvPr/>
        </p:nvPicPr>
        <p:blipFill>
          <a:blip r:embed="rId2"/>
          <a:stretch/>
        </p:blipFill>
        <p:spPr>
          <a:xfrm>
            <a:off x="2700360" y="1989000"/>
            <a:ext cx="6418080" cy="4321440"/>
          </a:xfrm>
          <a:prstGeom prst="rect">
            <a:avLst/>
          </a:prstGeom>
          <a:ln w="0">
            <a:noFill/>
          </a:ln>
        </p:spPr>
      </p:pic>
      <p:sp>
        <p:nvSpPr>
          <p:cNvPr id="84" name="13 Rectángulo"/>
          <p:cNvSpPr/>
          <p:nvPr/>
        </p:nvSpPr>
        <p:spPr>
          <a:xfrm>
            <a:off x="395280" y="2060640"/>
            <a:ext cx="237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os ejemplos de cordilleras son  los Pirineos y los Alpes en Europa, el Himalaya en Asia, los An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Sudamérica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las Montañas Rocosas en Norteamé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9"/>
          <p:cNvSpPr/>
          <p:nvPr/>
        </p:nvSpPr>
        <p:spPr>
          <a:xfrm>
            <a:off x="3924360" y="6381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4361040" y="64501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e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22200" y="1197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extensas regiones llanas, a veces elevadas, que forman la mayor parte de los contin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llan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12 Imagen" descr="llanura_bd.jpg"/>
          <p:cNvPicPr/>
          <p:nvPr/>
        </p:nvPicPr>
        <p:blipFill>
          <a:blip r:embed="rId2"/>
          <a:stretch/>
        </p:blipFill>
        <p:spPr>
          <a:xfrm>
            <a:off x="3059280" y="1989000"/>
            <a:ext cx="6013440" cy="4007160"/>
          </a:xfrm>
          <a:prstGeom prst="rect">
            <a:avLst/>
          </a:prstGeom>
          <a:ln w="0">
            <a:noFill/>
          </a:ln>
        </p:spPr>
      </p:pic>
      <p:sp>
        <p:nvSpPr>
          <p:cNvPr id="95" name="13 Rectángulo"/>
          <p:cNvSpPr/>
          <p:nvPr/>
        </p:nvSpPr>
        <p:spPr>
          <a:xfrm>
            <a:off x="250920" y="314172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os ejemplos de mesetas son la Meseta Central y la Gran Llanura Europea en Europa, o las Grandes Llanuras de Norteamé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14 Rectángulo"/>
          <p:cNvSpPr/>
          <p:nvPr/>
        </p:nvSpPr>
        <p:spPr>
          <a:xfrm>
            <a:off x="250920" y="1989000"/>
            <a:ext cx="33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do se hallan elevadas se denomina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mese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9"/>
          <p:cNvSpPr/>
          <p:nvPr/>
        </p:nvSpPr>
        <p:spPr>
          <a:xfrm>
            <a:off x="5003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7310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5465" y="3794"/>
                </a:lnTo>
                <a:lnTo>
                  <a:pt x="5465" y="17806"/>
                </a:lnTo>
                <a:lnTo>
                  <a:pt x="3803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5440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e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4000" y="14842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zonas más bajas que los relieves que se hayan a su alrede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de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1 Rectángulo"/>
          <p:cNvSpPr/>
          <p:nvPr/>
        </p:nvSpPr>
        <p:spPr>
          <a:xfrm>
            <a:off x="324000" y="2133720"/>
            <a:ext cx="223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os ejemplos de depresiones so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epresión del Guadalquivir y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epresión del Ebro en España,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el Turán entre Europa y Asia, 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el Mar Muert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Asia Me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13 Imagen" descr="depresion_bd.jpg"/>
          <p:cNvPicPr/>
          <p:nvPr/>
        </p:nvPicPr>
        <p:blipFill>
          <a:blip r:embed="rId2"/>
          <a:stretch/>
        </p:blipFill>
        <p:spPr>
          <a:xfrm>
            <a:off x="2556000" y="1909800"/>
            <a:ext cx="6483240" cy="42559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9"/>
          <p:cNvSpPr/>
          <p:nvPr/>
        </p:nvSpPr>
        <p:spPr>
          <a:xfrm>
            <a:off x="5003640" y="6308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5440320" y="63770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7T17:15:35Z</dcterms:modified>
  <cp:revision>52</cp:revision>
  <dc:subject/>
  <dc:title>Diapositiva 1</dc:title>
</cp:coreProperties>
</file>